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E8ED-FF01-4E57-B017-8CEB22CE4D1C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B075-2E6F-414A-A72B-B343060AB97E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E3F-271D-4865-8EE7-F498BD4C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23C-C00E-4E1A-B1D8-BA6AF8E5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48A-984D-4122-AD6C-FC980D12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F7E-B3AF-427D-854B-4E41ECF6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B6842-A6AC-493D-9C83-7E829132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E176B-3DDB-4201-8414-09DA2F98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7C5E2-931F-4660-A5BE-A270E710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E6B68-0794-42E8-96E4-7BDDB44C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E4ECA-7B81-4A88-8AD0-3BD32682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2D815-5F40-4939-9931-124444E9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67868-321B-476F-8CB0-5C6D1EE8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200-71D7-4C5B-BC1F-A3C50045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CDB9D-66D0-4EDB-888B-950749ED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C135E-B9BE-49E9-96A3-4935D9D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69CB5-C859-4A1D-A0CA-A6DD1611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57A7-604D-4ED6-ADC6-306A3F41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421FD-5943-45B2-85E3-D808CA68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BFE8-D81C-4ED4-BE3F-2E03637D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3B522-C566-4D95-8366-537BB493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F73B-A9DC-4597-B117-A7C796C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2716-4232-43A1-9C3F-758170EA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B391-E171-4F89-A71B-C0F760D6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577-2EEF-4158-8E09-A9143652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EC46-5CFB-4E69-8FA0-BC2836EA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0DAF8-2C93-4011-B957-24CE8BBE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C7C0-2466-4028-A0A5-93FC57B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D2AC6-4DFF-494D-87EA-C6C28977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F5B7-DDBC-4A07-9373-A81AE8B5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DC9D-E180-4308-AB67-9A567F05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51A3-3079-49F4-BE14-089FDCA2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5B6EDF-E3F7-4215-8658-0E00C706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BE9C0-76AB-4FF5-8EF9-8D215F18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B68F3-AFFE-4094-85BD-9B9FC932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A68-5BCA-414F-9331-FC39B941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47EBA-480C-484C-9DD9-4E6912C6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44BEA-4C0F-466D-AA75-65D434FA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874E1C-AB1C-4B60-91DC-49AF1792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6DC59A-3D34-45EA-9E33-28BD40B3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8E9A8-7990-40A5-AD1E-7F961EC8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A58E3-350E-4C82-927F-79BE4EB6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6FC16-88AF-4513-B3C1-2F551B0F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2A649-7F25-4934-AC47-945DBED6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1DED9-9DCD-4655-84A5-325CF7CE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422-DE21-4862-A67E-15A3EDE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378-DB35-4F82-962A-F8FB09E5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E16-C9B5-4FCF-AD6C-29ED06BF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5B1-9C45-4B68-969B-7765ECE1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F9D-4F33-40B9-B8AF-4B71881F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18AF-5E42-4BFE-9B12-1AC37412D0F3}" type="slidenum">
              <a:rPr b="0" lang="ro-RO" sz="16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2B61-4606-4E3E-AA37-6B6EC0C842F5}" type="slidenum">
              <a:rPr b="0" lang="ro-RO" sz="16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948D-930F-4B90-BAB1-9E02BB8C424A}" type="slidenum">
              <a:rPr b="0" lang="ro-RO" sz="16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711E-EA78-4887-8F7C-877F100952CB}" type="slidenum">
              <a:rPr b="0" lang="ro-RO" sz="1600" spc="-1" strike="noStrike">
                <a:solidFill>
                  <a:srgbClr val="1f497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1f497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1f497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2"/>
          <a:stretch/>
        </p:blipFill>
        <p:spPr>
          <a:xfrm>
            <a:off x="-96840" y="109440"/>
            <a:ext cx="9333000" cy="2536920"/>
          </a:xfrm>
          <a:prstGeom prst="rect">
            <a:avLst/>
          </a:prstGeom>
          <a:ln w="0">
            <a:noFill/>
          </a:ln>
        </p:spPr>
      </p:pic>
      <p:sp>
        <p:nvSpPr>
          <p:cNvPr id="178" name="Text Placeholder 4"/>
          <p:cNvSpPr/>
          <p:nvPr/>
        </p:nvSpPr>
        <p:spPr>
          <a:xfrm>
            <a:off x="685800" y="26668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Realizat de:Haidu 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Chet Co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Duma Ion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Bota Cris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Viliga Dani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a22a0e"/>
                </a:solidFill>
                <a:latin typeface="Constantia"/>
              </a:rPr>
              <a:t>Malita Claud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Definit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Caracteristicile unei funct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Graficul unei functii radical de ordin p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Graficul unei functii radical de ordin imp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Concluz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22a0e"/>
                </a:solidFill>
                <a:latin typeface="Constantia"/>
              </a:rPr>
              <a:t>Bibliografi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Title 5" descr=""/>
          <p:cNvPicPr/>
          <p:nvPr/>
        </p:nvPicPr>
        <p:blipFill>
          <a:blip r:embed="rId2"/>
          <a:stretch/>
        </p:blipFill>
        <p:spPr>
          <a:xfrm>
            <a:off x="360360" y="146160"/>
            <a:ext cx="8405640" cy="1347840"/>
          </a:xfrm>
          <a:prstGeom prst="rect">
            <a:avLst/>
          </a:prstGeom>
          <a:ln w="0">
            <a:noFill/>
          </a:ln>
        </p:spPr>
      </p:pic>
      <p:pic>
        <p:nvPicPr>
          <p:cNvPr id="182" name="Content Placeholder 6" descr=""/>
          <p:cNvPicPr/>
          <p:nvPr/>
        </p:nvPicPr>
        <p:blipFill>
          <a:blip r:embed="rId3"/>
          <a:stretch/>
        </p:blipFill>
        <p:spPr>
          <a:xfrm>
            <a:off x="304920" y="1365120"/>
            <a:ext cx="8321400" cy="4645080"/>
          </a:xfrm>
          <a:prstGeom prst="rect">
            <a:avLst/>
          </a:prstGeom>
          <a:ln w="0">
            <a:noFill/>
          </a:ln>
        </p:spPr>
      </p:pic>
      <p:pic>
        <p:nvPicPr>
          <p:cNvPr id="183" name="Conector drept 7" descr=""/>
          <p:cNvPicPr/>
          <p:nvPr/>
        </p:nvPicPr>
        <p:blipFill>
          <a:blip r:embed="rId4"/>
          <a:stretch/>
        </p:blipFill>
        <p:spPr>
          <a:xfrm>
            <a:off x="4797360" y="1504800"/>
            <a:ext cx="244440" cy="38160"/>
          </a:xfrm>
          <a:prstGeom prst="rect">
            <a:avLst/>
          </a:prstGeom>
          <a:ln w="0">
            <a:noFill/>
          </a:ln>
        </p:spPr>
      </p:pic>
      <p:pic>
        <p:nvPicPr>
          <p:cNvPr id="184" name="Conector drept 8" descr=""/>
          <p:cNvPicPr/>
          <p:nvPr/>
        </p:nvPicPr>
        <p:blipFill>
          <a:blip r:embed="rId5"/>
          <a:stretch/>
        </p:blipFill>
        <p:spPr>
          <a:xfrm>
            <a:off x="5784840" y="2419200"/>
            <a:ext cx="244440" cy="38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Table 14" descr=""/>
          <p:cNvPicPr/>
          <p:nvPr/>
        </p:nvPicPr>
        <p:blipFill>
          <a:blip r:embed="rId2"/>
          <a:stretch/>
        </p:blipFill>
        <p:spPr>
          <a:xfrm>
            <a:off x="0" y="36360"/>
            <a:ext cx="8759880" cy="682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2819520" y="3124080"/>
          <a:ext cx="2895480" cy="743040"/>
        </p:xfrm>
        <a:graphic>
          <a:graphicData uri="http://schemas.openxmlformats.org/drawingml/2006/table">
            <a:tbl>
              <a:tblPr/>
              <a:tblGrid>
                <a:gridCol w="533160"/>
                <a:gridCol w="2362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∞           1         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           1          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019920" y="3124080"/>
          <a:ext cx="2743200" cy="743040"/>
        </p:xfrm>
        <a:graphic>
          <a:graphicData uri="http://schemas.openxmlformats.org/drawingml/2006/table">
            <a:tbl>
              <a:tblPr/>
              <a:tblGrid>
                <a:gridCol w="533160"/>
                <a:gridCol w="2210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∞   -1     0      1 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∞   -1     0     1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819520" y="4343400"/>
          <a:ext cx="2971800" cy="735120"/>
        </p:xfrm>
        <a:graphic>
          <a:graphicData uri="http://schemas.openxmlformats.org/drawingml/2006/table">
            <a:tbl>
              <a:tblPr/>
              <a:tblGrid>
                <a:gridCol w="552240"/>
                <a:gridCol w="2419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                        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 +   +   +   +   +   +   +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943600" y="4343400"/>
          <a:ext cx="2819520" cy="735120"/>
        </p:xfrm>
        <a:graphic>
          <a:graphicData uri="http://schemas.openxmlformats.org/drawingml/2006/table">
            <a:tbl>
              <a:tblPr/>
              <a:tblGrid>
                <a:gridCol w="523800"/>
                <a:gridCol w="2295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∞              0           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  -  -  -  -  -0+  +  + 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Conector drept 7"/>
          <p:cNvSpPr/>
          <p:nvPr/>
        </p:nvSpPr>
        <p:spPr>
          <a:xfrm>
            <a:off x="3429000" y="380880"/>
            <a:ext cx="2286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ector drept 8"/>
          <p:cNvSpPr/>
          <p:nvPr/>
        </p:nvSpPr>
        <p:spPr>
          <a:xfrm>
            <a:off x="7238880" y="15228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62520" y="3657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800600" y="3657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10280" y="36576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91520" y="3657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772400" y="3657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6576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2"/>
          <a:stretch/>
        </p:blipFill>
        <p:spPr>
          <a:xfrm>
            <a:off x="390600" y="146160"/>
            <a:ext cx="8302680" cy="1158840"/>
          </a:xfrm>
          <a:prstGeom prst="rect">
            <a:avLst/>
          </a:prstGeom>
          <a:ln w="0">
            <a:noFill/>
          </a:ln>
        </p:spPr>
      </p:pic>
      <p:pic>
        <p:nvPicPr>
          <p:cNvPr id="200" name="Content Placeholder 5" descr="fără titlu.bmp"/>
          <p:cNvPicPr/>
          <p:nvPr/>
        </p:nvPicPr>
        <p:blipFill>
          <a:blip r:embed="rId3"/>
          <a:stretch/>
        </p:blipFill>
        <p:spPr>
          <a:xfrm>
            <a:off x="380880" y="1981080"/>
            <a:ext cx="8382240" cy="39625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838080" y="3962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f(x)=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657600" y="40384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f(x)=</a:t>
            </a:r>
            <a:r>
              <a:rPr b="0" lang="ro-RO" sz="1800" spc="-1" strike="noStrike" baseline="30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931800" y="43434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063200" y="259092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0000"/>
                </a:solidFill>
                <a:latin typeface="Constantia"/>
              </a:rPr>
              <a:t>y=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7224120" y="3124080"/>
            <a:ext cx="7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y=</a:t>
            </a:r>
            <a:r>
              <a:rPr b="0" lang="ro-RO" sz="1800" spc="-1" strike="noStrike" baseline="30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049200" y="3581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8535600" y="3581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5639760" y="3581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617220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3658680" y="2133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1220400" y="2057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3631680" y="3200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1726920" y="3657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1117080" y="3200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6070320" y="3276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6603480" y="3657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4165200" y="3657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018120" y="36576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3579480" y="36576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141200" y="36576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onector drept 27"/>
          <p:cNvSpPr/>
          <p:nvPr/>
        </p:nvSpPr>
        <p:spPr>
          <a:xfrm>
            <a:off x="7772400" y="350532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ector drept 28"/>
          <p:cNvSpPr/>
          <p:nvPr/>
        </p:nvSpPr>
        <p:spPr>
          <a:xfrm>
            <a:off x="7543800" y="2971800"/>
            <a:ext cx="22860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onector drept 29"/>
          <p:cNvSpPr/>
          <p:nvPr/>
        </p:nvSpPr>
        <p:spPr>
          <a:xfrm>
            <a:off x="1523880" y="434340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onector drept 30"/>
          <p:cNvSpPr/>
          <p:nvPr/>
        </p:nvSpPr>
        <p:spPr>
          <a:xfrm>
            <a:off x="4419720" y="441972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2"/>
          <a:stretch/>
        </p:blipFill>
        <p:spPr>
          <a:xfrm>
            <a:off x="390600" y="36360"/>
            <a:ext cx="8319960" cy="1036800"/>
          </a:xfrm>
          <a:prstGeom prst="rect">
            <a:avLst/>
          </a:prstGeom>
          <a:ln w="0">
            <a:noFill/>
          </a:ln>
        </p:spPr>
      </p:pic>
      <p:pic>
        <p:nvPicPr>
          <p:cNvPr id="226" name="Content Placeholder 5" descr="dffgfdhfhdd.bmp"/>
          <p:cNvPicPr/>
          <p:nvPr/>
        </p:nvPicPr>
        <p:blipFill>
          <a:blip r:embed="rId3"/>
          <a:stretch/>
        </p:blipFill>
        <p:spPr>
          <a:xfrm>
            <a:off x="304920" y="1447920"/>
            <a:ext cx="8534160" cy="42670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762120" y="4038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f(x)=</a:t>
            </a:r>
            <a:r>
              <a:rPr b="0" lang="ro-RO" sz="18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581280" y="40384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f(x)=</a:t>
            </a:r>
            <a:r>
              <a:rPr b="0" lang="ro-RO" sz="1800" spc="-1" strike="noStrike" baseline="30000">
                <a:solidFill>
                  <a:srgbClr val="000000"/>
                </a:solidFill>
                <a:latin typeface="Constantia"/>
              </a:rPr>
              <a:t>5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6706440" y="4572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7224120" y="2438280"/>
            <a:ext cx="7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0000"/>
                </a:solidFill>
                <a:latin typeface="Constantia"/>
              </a:rPr>
              <a:t>y=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nstantia"/>
              </a:rPr>
              <a:t>3</a:t>
            </a:r>
            <a:r>
              <a:rPr b="0" lang="ro-RO" sz="1800" spc="-1" strike="noStrike">
                <a:solidFill>
                  <a:srgbClr val="ff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7452720" y="2895480"/>
            <a:ext cx="791640" cy="642600"/>
          </a:xfrm>
          <a:prstGeom prst="rect">
            <a:avLst/>
          </a:prstGeom>
          <a:noFill/>
          <a:ln w="9360">
            <a:solidFill>
              <a:srgbClr val="fef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y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nstantia"/>
              </a:rPr>
              <a:t>5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√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6477120" y="1752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3886200" y="1828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1220400" y="1828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896560" y="3352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5411160" y="3352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8611560" y="3352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639900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380808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1143000" y="342900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4316400" y="34290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3782880" y="30481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1649520" y="34290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1116000" y="30481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6373800" y="30481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6907320" y="34290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6"/>
          <p:cNvSpPr/>
          <p:nvPr/>
        </p:nvSpPr>
        <p:spPr>
          <a:xfrm>
            <a:off x="3942000" y="3657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3408840" y="32767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741600" y="32767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9"/>
          <p:cNvSpPr/>
          <p:nvPr/>
        </p:nvSpPr>
        <p:spPr>
          <a:xfrm>
            <a:off x="1275120" y="3657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0"/>
          <p:cNvSpPr/>
          <p:nvPr/>
        </p:nvSpPr>
        <p:spPr>
          <a:xfrm>
            <a:off x="5923440" y="32767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6532920" y="3657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onector drept 32"/>
          <p:cNvSpPr/>
          <p:nvPr/>
        </p:nvSpPr>
        <p:spPr>
          <a:xfrm>
            <a:off x="4343400" y="441972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onector drept 33"/>
          <p:cNvSpPr/>
          <p:nvPr/>
        </p:nvSpPr>
        <p:spPr>
          <a:xfrm>
            <a:off x="8001000" y="327672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ector drept 34"/>
          <p:cNvSpPr/>
          <p:nvPr/>
        </p:nvSpPr>
        <p:spPr>
          <a:xfrm>
            <a:off x="7772400" y="2819520"/>
            <a:ext cx="22860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drept 35"/>
          <p:cNvSpPr/>
          <p:nvPr/>
        </p:nvSpPr>
        <p:spPr>
          <a:xfrm>
            <a:off x="1523880" y="4419720"/>
            <a:ext cx="228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33b0d"/>
                </a:solidFill>
                <a:latin typeface="Constantia"/>
              </a:rPr>
              <a:t>Concluzie</a:t>
            </a:r>
            <a:endParaRPr b="0" lang="en-US" sz="4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functia radical de ordinul par si impar cu cat creste ordinul radicalului graficul functiei se apropie de axa O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838080" y="569880"/>
            <a:ext cx="73692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ibliograf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ircea Ganga, Manual de matematic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pentru clasa a X-a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, 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itura Mathpress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Marius Burtea, Georgeta Burtea Matematică -manual TC si CD, clasa a X-a, Editura Carminis, Piteşti, 2005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Petre Năchilă, Nicolae Angelescu, Algebră, clasa a X-a, Editura Paralela 45, Piteşti,1998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3" descr=""/>
          <p:cNvPicPr/>
          <p:nvPr/>
        </p:nvPicPr>
        <p:blipFill>
          <a:blip r:embed="rId2"/>
          <a:stretch/>
        </p:blipFill>
        <p:spPr>
          <a:xfrm>
            <a:off x="457200" y="2359080"/>
            <a:ext cx="8242200" cy="1841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8:57Z</dcterms:created>
  <dc:creator>marius</dc:creator>
  <dc:description/>
  <dc:language>en-US</dc:language>
  <cp:lastModifiedBy>Jeni</cp:lastModifiedBy>
  <dcterms:modified xsi:type="dcterms:W3CDTF">2011-02-24T16:14:43Z</dcterms:modified>
  <cp:revision>61</cp:revision>
  <dc:subject/>
  <dc:title>Functia radical de ordinul n</dc:title>
</cp:coreProperties>
</file>